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54F-56EE-4B58-AF7E-E328D6CD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176-6ECC-415A-B7ED-CA2B3AE5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64E-7143-4575-B4B4-7CE8F57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930-180C-482C-8E39-901310AB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823-4484-4583-8CDF-755C02F6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39F-3C4C-4707-A97A-9BCBF90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7DF8-64E3-4BC0-B48D-9E92539D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2B2-B09D-4DAB-AF81-6D92F1B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BADC-9903-4E16-9255-60752BEB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1F28-2956-4AB1-B940-37AA316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2CD-D91D-4E86-8860-946E44D9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91D-690F-40BE-BABA-E192E49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AE6-5F72-49E3-9BF9-BFCE9753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AB6E-B683-4043-841E-A8F66E9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CFD6-AA52-4024-8316-82F0A9E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D025-F62B-448E-B407-66B62EB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3AF7-94A4-4E83-B253-6313BB01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A9DA-EEA6-4350-9F0D-3717F2B1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93F-748A-4AD8-8A8F-5C393A8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F43-993D-4B07-B70B-7214A45A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DA4-E979-4328-9B81-80723DAD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744-A36F-43D5-8A04-74B43AD0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A9E-8D0D-4D9A-A5E0-22D0390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360-7A82-4DC1-A00F-D4AA76A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885-0CF8-411A-84C0-E0AA101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C5C4-382D-484C-B82B-3BF7111D7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B564-2FD0-4262-98CA-87C56710D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812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bruced@humongous.com" TargetMode="External"/><Relationship Id="rId3" Type="http://schemas.openxmlformats.org/officeDocument/2006/relationships/hyperlink" Target="mailto:bruced@humongous.com" TargetMode="External"/><Relationship Id="rId4" Type="http://schemas.openxmlformats.org/officeDocument/2006/relationships/hyperlink" Target="http://www.cygnus-software.com/papers/" TargetMode="External"/><Relationship Id="rId5" Type="http://schemas.openxmlformats.org/officeDocument/2006/relationships/hyperlink" Target="http://www.cygnus-software.com/papers/" TargetMode="External"/><Relationship Id="rId6" Type="http://schemas.openxmlformats.org/officeDocument/2006/relationships/hyperlink" Target="http://www.cygnus-software.com/papers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lourcube.exe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mpositeViewer.exe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mpositeViewer.exe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annelDecimate.exe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gnus-software.com/papers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nterlaceSimddraw.exe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Happened to my Colours!?!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isplaying console computer graphics on a TV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ruce Daw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umongous Entertai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bruced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@humongous.co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http://www.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5"/>
              </a:rPr>
              <a:t>cygnus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6"/>
              </a:rPr>
              <a:t>-software.com/papers/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ccepting reduced resolu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ducing vertical resolution is annoy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ever, keeping it is actually w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’re not giving up resolution - you never really had i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ell factor’ suggests maximum vertical resolution is 70% of line co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ccepting reduced resolu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ing from 320x240 to 640x480 does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mean your vertical resolution has double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fessional video cameras and encoders all limit vertical detai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sole video encoders vary, but most have an option for vertical filter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imulating resolu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can simulate fine detail by using antialias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m lines will be perceived as thinn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nts should be antialiased, to allow finer detail with less blurr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s is most important on static screens – movement hides some flick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l-time vertical filte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able vertical filtering if it’s avail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quires vertically adjacent detail for best results - a full frame im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ndering full frames at 60Hz is ide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ndering fields at 60Hz can work well, if the previous field is retained for filter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 a 16-bit frame buffer if necessa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llegal colo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uters use the RGB colour space - all pixel colours are made by combining red, green, and bl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TSC uses YUV or YIQ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 stands for luminance - bright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 = .299R’ + .587G’ + .114B’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UV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R, G, and B are all equal then Y will equal R, G, and B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12400" indent="-212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 can store colour information by recording how far B and R are from 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12400" indent="-212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 = 0.492(B’ - Y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12400" indent="-212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 = 0.877(R’ - Y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12400" indent="-212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Demo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IQ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TSC doesn’t use YUV, it uses YIQ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IQ is a rotation of the U and V axes 33 degrees, so they line up with the way our brains process colou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= V cos(33) - U sin(3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 = V sin(33) + U cos(3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utting Y, I and Q togeth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rst, I and Q are combined to make C, also known as chro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 is a sine wave. Its amplitude represents saturation, and its phase represents h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 and C are combined through simple addition to make a composite sign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does this matt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 highly saturated colours C has a substantial amplitu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s means that Y+C has a much greater range than 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Demo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re on illegal col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 is physically impossible to broadcast some colours outside of this r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llegal colours can interfere with soun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Vs are not designed to handle these colours, so they do it poor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ghly saturated colours make interference between C (chroma) and Y more like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uter graphics display badly on TV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reasons why are poorly understoo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main problems are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rlaced flick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llegal colou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mited reso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-res games can’t ignore the probl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xing illegal colo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st illegal colours are red, blue, yellow, and cya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mplest fix is to reduce satur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ducing luminance works, but drastically changes the colou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 is easy to write code that detects and highlights or fixes illegal colou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Demo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YIQ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IQ was chosen for the NTSC standard because of the compatibility it provided - Y equaled the monochrome TV sign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 was also chosen because our eyes are most sensitive to detail in Y, less sensitive to detail in I, and least sensitive in Q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Demo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requency lim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and Q can be stored and broadcast at lower resolution, without it being notice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ximum bandwidth of Y is 4.2 MH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ximum bandwidth of I is 1.3 MH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ximum bandwidth of Q was 0.6 MHz, now it has been increased to 1.3 MH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solution lim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640x480x30 fps is 9,216,000 pixels per secon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4.2 MHz signal is roughly equivalent to 8.4 million samp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25% of those are spent on horizontal and vertical blan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ximum NTSC horizontal resolution is at best 425, and 250-330 is more like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b fil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lour and luminance information overlap in frequency spa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ximum horizontal resolution requires a comb filter in the TV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b filters assume adjacent lines have little colour vari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lour changes can show up as Y detai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ven lower resolution lim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ce I and Q are limited to 1.3 MHz, their effective resolution is even low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s is less of a problem, since I and Q are a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lo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less importa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llow the ru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you put in horizontal detail beyond these limits then - without an S-Video or component connector - your customers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canno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see 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it makes it to the TV it will be as chroma crawl or other image defec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od encoders will filter out the high frequencies, but you can help th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e solution as befo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l with the horizontal resolution limits just like interlaced flick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nts and other fine detail should be antialias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mmer lines will be perceived as thinn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levision producers deal with this by avoiding fine stripes, herringbone patterns, checkers, etc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tialiasing matters - a 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gh frequencies cause many probl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iasing causes high frequ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urry TVs </a:t>
            </a: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don’t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hide alias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iased edges are the biggest causes of chroma crawl and interlaced flick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tant textures that aren’t mip-mapped, or tiny polygons, cause aliasing that blurriness cannot possibly hi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bout PAL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L has a higher bandwidth signal - 60% more per fie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are no illegal colours in P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laced flicker is worse, due to the 50 Hz refresh r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r animations need to handle 25/50 Hz updates as well as 30/6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es, I spell colour with a ‘u’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’m Canadian, eh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DTV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DTV is gre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lowest resolution is 720x480, it’s not interlaced, and all of those pixels are really the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body has HDTV yet - maybe the new consoles will give people a reason to buy 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TSC was not the first North American colour TV standard - CBS invented a short lived standar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44 fields per second, cycling through red, green and bl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colour wheel in the set spinning at 1440 RPM added colou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t needn’t be this w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of the limitations of NTSC only apply when you are transmitting signa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se limits needn’t apply when transmitting from inside the living room!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V tubes can display arbitrary RG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osite video is only used because of lack of demand for better connecto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consid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reating content, think about calibrating your monitors, and keep the lights 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eep vital information inside the “text safe area”, to make sure it is visible on all TV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can consumers do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n’t put many signals on one wi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F is wors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osite is also ba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-Video is great, and component is bet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uropeans should use a SCART connect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can developers do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st on cheap, old TVs with composite connectors, maybe even R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st on new TVs with comb fil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eck for illegal colou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void excessive detai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mulate fine detail with dim lin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else can developers do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tialias everything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able vertical filter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librate monito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urn the lights 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pect the text safe are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oders may protect you, but they will be removing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d the paper in the GDC proceeding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ult the references listed in the pap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 Mike Nichols talk “From PC to TV”, also in the GDC 2001 proceeding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ok for more references, slides, new information, and sample programs at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http://www.cygnus-software.com/papers/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scribe the problems in a clear and simple wa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 why the problems ex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ive suggestions on how to deal with these probl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or backgro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rted writing computer games in 1987 for the Commodore Amiga, a ‘video synchronized’ compu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ked for Elastic Reality/Avid on professional special effects and video editing softw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king on game for next-gen console at Humongous Entertai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lickering im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mages which are rock solid on a computer monitor may flicker badly when displayed on a TV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s happens because each line is only scanned out thirty times per secon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“fusion frequency” is generally around 50-60 flashes per second (Hz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la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lectron beam scans entire screen sixty (actually 59.94) times per secon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draws every other line each ti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ch pass is called a ‘field’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wo fields make a ‘frame’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s is known as an interlaced displa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Demo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interla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st use of limited broadcast bandwid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ternatives were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e more bandwidth: fewer channe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0 fps non-interlaced: worse flick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e half as many lines: lower reso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ffer each frame and show it twice: not possible in 194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alternatives were all w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aling with interla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V shows and movies don’t flicker much - we need to learn from th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st case is a thin white line on a black background. Don’t do thi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void sudden transitions in general - soften them by blurring vertical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‘blurring’ sounds bad, call it “vertical filtering of out of bounds frequencie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0T21:49:32Z</dcterms:created>
  <dc:creator>Bruce Dawson</dc:creator>
  <dc:description/>
  <dc:language>en-US</dc:language>
  <cp:lastModifiedBy>Bruce Dawson</cp:lastModifiedBy>
  <dcterms:modified xsi:type="dcterms:W3CDTF">2001-03-26T01:34:52Z</dcterms:modified>
  <cp:revision>36</cp:revision>
  <dc:subject/>
  <dc:title>What Happened to my Colours!?! Displaying console computer graphics on a TV</dc:title>
</cp:coreProperties>
</file>